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2CEA-0E95-404D-A09F-6F0F72545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C4F0-E1B1-4D7A-A067-48C431704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68E2-C4CE-4B7A-B713-ECF27BC12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4B0F-8B8E-4381-AA9A-115C343EF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065E4-2F71-4C90-A47C-CD9FC2F87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07A04-5ECB-4D8B-A061-F134C818E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C43DF-2E1F-4257-94B9-8ECA86FF8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B9424-EAE5-49CC-BAD2-80A227DBC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6CA6D-9B4E-48C7-A95B-978A4E821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0EDEF-5F81-40B9-911F-83593553B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7749C-9723-492A-99E5-343818AF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808F-311D-4DB2-AC5A-F3F6378AA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652DB-3F7A-4163-B003-4B6A1DDA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400AE-8AB5-4E25-94CB-89EA4C13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86487-2D8C-4651-A08E-EA152D8BC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B866B-A3ED-4C21-B3D1-DB7D4136D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89BF7-5D08-45BB-B0C8-B9F62DDE8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EF22-7690-4018-A9D2-FAA840722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7BFA-65EC-4AB2-90A1-F17E85187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841F-263E-4763-9A2D-6CC7839E2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4A82-5114-4788-862D-BEEFD7D0E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ED2B-7C7C-4FCB-A4DE-4E12351B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8DCF-1F9D-4053-812A-21581752B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62B3-AFD7-4F05-ACBB-3DE5A8BF0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1D7B6-5EF6-402F-B5AF-FC343A4E6B7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B9419-4EF7-4DEF-BD32-E243B47F522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Failure of Prohibitio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y: Andy Boy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illiam Bahureks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dam Brit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End of Prohibi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40384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hibition was ended with the 2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Verdana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Amendment in 1933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648320" y="2362320"/>
            <a:ext cx="403848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istory of the Amend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ohibition was Put in place in 1919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ohibition is where the trade and consumption of alcohol is illega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as meant to be enforced by the Volstead Ac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ecause of this, the crime rate went up substantially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istory Cont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ecause so many people of the middle class could not afford going to a speakeasies, a club where liquor is sold illegally, people often resorted to bootlegg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ootlegge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ootleggers are people that produced, sold, or transported alcohol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 Capone was one of the most famous Bootleggers of his tim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419720" y="2290680"/>
            <a:ext cx="4419360" cy="30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ASCA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re is a myth that bootleggers rigged there cars to hold heavy loads of alcohol with supercharged engines, heavy shocks, and spring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stories of these cars make up much of stock-car racing’s root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Normality of Law Break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growing problem is the Americans were breaking the law too casuall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cause of prohibition the cocktail was develop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960800" y="1600200"/>
            <a:ext cx="341172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om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01680" y="1752480"/>
            <a:ext cx="4235400" cy="43434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ny women for prohibition, however, some refused to obey i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omen were not allowed to drink in saloons, so speakeasies were developed as a place for women to drink at a high pri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peakeasi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peakeasies were illegal underground clubs for people to buy alcohol at a high pri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y 1925 there were 100,000 in New York Cit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419720" y="1978200"/>
            <a:ext cx="42670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roblems with the Law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llegal distilling, doctor prescriptions, bootleggers, etc. was occurring frequently as many did not take the law seriously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952880" y="1523880"/>
            <a:ext cx="3262320" cy="44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2T15:14:34Z</dcterms:created>
  <dc:creator>TECH</dc:creator>
  <dc:description/>
  <dc:language>en-US</dc:language>
  <cp:lastModifiedBy>ASD</cp:lastModifiedBy>
  <dcterms:modified xsi:type="dcterms:W3CDTF">2010-06-22T21:11:25Z</dcterms:modified>
  <cp:revision>3</cp:revision>
  <dc:subject/>
  <dc:title>Failure of Prohibition</dc:title>
</cp:coreProperties>
</file>